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6EE-DB1A-47ED-A535-7D6F152D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3C0-5BB1-4ACC-800A-EBA98CFD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A3C-A065-455C-AF23-62346C55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D26-919D-43CF-8F4F-495DDCC0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B1F-2A72-4F75-B4F7-F7F60AAA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671-6278-4136-AB8F-A29CAFDB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984-9CCB-404A-818C-02695F42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4BB-73CF-46F6-ABF5-1E59D92A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533-3447-46B8-AD68-8A89E2FC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761-4DA2-4442-9442-F152E322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831-2973-41AA-BE06-49D15F5B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7EB-BB81-44AA-9BF8-56E5A93B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CCAB-9EB4-41EF-B090-605BB58051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zKDFjAHkes" TargetMode="External"/><Relationship Id="rId2" Type="http://schemas.openxmlformats.org/officeDocument/2006/relationships/hyperlink" Target="http://www.youtube.com/watch?v=2zKDFjAHkes" TargetMode="External"/><Relationship Id="rId3" Type="http://schemas.openxmlformats.org/officeDocument/2006/relationships/hyperlink" Target="http://www.youtube.com/watch?v=2zKDFjAHkes" TargetMode="External"/><Relationship Id="rId4" Type="http://schemas.openxmlformats.org/officeDocument/2006/relationships/hyperlink" Target="http://www.eoearth.org/image/Hunters_with_a_net_rapped_on_a_stick_and_a_spear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ndangered%20species%20puzz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 rot="1784400">
            <a:off x="-431640" y="236304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9900"/>
                </a:solidFill>
                <a:latin typeface="Kristen ITC"/>
              </a:rPr>
              <a:t>Endangered </a:t>
            </a:r>
            <a:r>
              <a:rPr b="1" lang="en-US" sz="7400" spc="-1" strike="noStrike">
                <a:solidFill>
                  <a:srgbClr val="ff9900"/>
                </a:solidFill>
                <a:latin typeface="Kristen ITC"/>
              </a:rPr>
              <a:t>Species</a:t>
            </a:r>
            <a:endParaRPr b="0" lang="en-US" sz="7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105520" y="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By: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auren Salvadeo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Krissi K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CTIV Handwriting Print"/>
              </a:rPr>
              <a:t>What are endangered species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Kristen ITC"/>
              </a:rPr>
              <a:t>They are species with a population that decreased over a period of time to a very small nu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Kristen ITC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Kristen ITC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Kristen ITC"/>
              </a:rPr>
              <a:t>-They are at risk for exti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worlmap"/>
          <p:cNvPicPr/>
          <p:nvPr/>
        </p:nvPicPr>
        <p:blipFill>
          <a:blip r:embed="rId1"/>
          <a:stretch/>
        </p:blipFill>
        <p:spPr>
          <a:xfrm>
            <a:off x="1447920" y="3429000"/>
            <a:ext cx="5715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bfff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What causes endangerment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Endangerment is a very large issue today and when a species becomes endangered, it has a lot to do with the animal’s habitat and its environment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	</a:t>
            </a: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Habitat De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90720" y="31240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43000" y="320040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09480" y="2666880"/>
            <a:ext cx="79250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When an animal’s habitat changes at a fast pace,                        it does not have enough time to adjust.</a:t>
            </a:r>
            <a:br>
              <a:rPr sz="2400"/>
            </a:b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	</a:t>
            </a: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habitat loss- primary c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Humans play a big role </a:t>
            </a:r>
            <a:br>
              <a:rPr sz="2400"/>
            </a:b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 in habitat destruction.</a:t>
            </a:r>
            <a:br>
              <a:rPr sz="2400"/>
            </a:b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   ex) pollution in waters </a:t>
            </a:r>
            <a:br>
              <a:rPr sz="2400"/>
            </a:b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        causes fish to d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chfa_04_img0945"/>
          <p:cNvPicPr/>
          <p:nvPr/>
        </p:nvPicPr>
        <p:blipFill>
          <a:blip r:embed="rId1"/>
          <a:stretch/>
        </p:blipFill>
        <p:spPr>
          <a:xfrm>
            <a:off x="4419720" y="4038480"/>
            <a:ext cx="450504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Causes Continue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Introduction of Invasive Spec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Native species grew up in a given area and adapted to the environment and the other species living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Invasive species are introduced to the environment either by accident or intentionally by humans and this may or may not cause a prob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- They could prey on the native animals and out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         compete them for food and cause the native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         to become endangered or extin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Overexplo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Overexploitation is the rate at which a certain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species is used which could lead to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endangerment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ex) wha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More factors that could cause endanger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Disease, limited distribution, and pol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http://www.met.gov.na/programmes/rhino/face.jpg"/>
          <p:cNvPicPr/>
          <p:nvPr/>
        </p:nvPicPr>
        <p:blipFill>
          <a:blip r:embed="rId2"/>
          <a:stretch/>
        </p:blipFill>
        <p:spPr>
          <a:xfrm>
            <a:off x="6324480" y="3733920"/>
            <a:ext cx="239076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CTIV Handwriting Print"/>
              </a:rPr>
              <a:t>Endangered Spec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Mountain Gori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Black Rh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Giant Pan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Polar B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Marine Tur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Eleph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Black Spider Mon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Brown Kiw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panda"/>
          <p:cNvPicPr/>
          <p:nvPr/>
        </p:nvPicPr>
        <p:blipFill>
          <a:blip r:embed="rId2"/>
          <a:stretch/>
        </p:blipFill>
        <p:spPr>
          <a:xfrm>
            <a:off x="5410080" y="9144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african-elephant-01301164b"/>
          <p:cNvPicPr/>
          <p:nvPr/>
        </p:nvPicPr>
        <p:blipFill>
          <a:blip r:embed="rId3"/>
          <a:stretch/>
        </p:blipFill>
        <p:spPr>
          <a:xfrm>
            <a:off x="4572000" y="380988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MountainGorillaYawning-MikeCrowther"/>
          <p:cNvPicPr/>
          <p:nvPr/>
        </p:nvPicPr>
        <p:blipFill>
          <a:blip r:embed="rId1"/>
          <a:stretch/>
        </p:blipFill>
        <p:spPr>
          <a:xfrm>
            <a:off x="0" y="0"/>
            <a:ext cx="2884320" cy="36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polar_bears-Mom_n_Baby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29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jfseaturtlepair"/>
          <p:cNvPicPr/>
          <p:nvPr/>
        </p:nvPicPr>
        <p:blipFill>
          <a:blip r:embed="rId3"/>
          <a:stretch/>
        </p:blipFill>
        <p:spPr>
          <a:xfrm>
            <a:off x="0" y="3581280"/>
            <a:ext cx="3809880" cy="32767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2386080" y="514440"/>
            <a:ext cx="437184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2386080" y="514440"/>
            <a:ext cx="437184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386080" y="514440"/>
            <a:ext cx="437184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8" descr="Kiwi2"/>
          <p:cNvPicPr/>
          <p:nvPr/>
        </p:nvPicPr>
        <p:blipFill>
          <a:blip r:embed="rId4"/>
          <a:stretch/>
        </p:blipFill>
        <p:spPr>
          <a:xfrm>
            <a:off x="2895480" y="0"/>
            <a:ext cx="3124440" cy="403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www.amersol.edu.pe/ms/7th/7block/jungle_research/new_cards/20/spidermonkeybaby.jpg"/>
          <p:cNvPicPr/>
          <p:nvPr/>
        </p:nvPicPr>
        <p:blipFill>
          <a:blip r:embed="rId5"/>
          <a:stretch/>
        </p:blipFill>
        <p:spPr>
          <a:xfrm>
            <a:off x="3429000" y="4038480"/>
            <a:ext cx="350532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http://www.arksark.org/blog/wp-content/uploads/2007/11/blackrhino.jpg"/>
          <p:cNvPicPr/>
          <p:nvPr/>
        </p:nvPicPr>
        <p:blipFill>
          <a:blip r:embed="rId6"/>
          <a:stretch/>
        </p:blipFill>
        <p:spPr>
          <a:xfrm>
            <a:off x="5978520" y="2895480"/>
            <a:ext cx="3165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363"/>
                </a:solidFill>
                <a:latin typeface="Univers"/>
              </a:rPr>
              <a:t>Po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09480"/>
            <a:ext cx="899172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Poaching is when humans illegally kill or capture animal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Ex) capturing an animal without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  licen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In a country where hunting is an important par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of the economy and culture, poaching ma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occur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   - Some countries use animal hide, ivor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     horn, teeth, and bones to make product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     such as jewel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Some methods of poaching in other countrie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snare wires- tied to trees to capture certain anima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trap nets- animals are chased towards the net and get cau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pitfalls- usually used to capture larger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Poaching could spread disea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ex) Anthrax was spread in Uganda due to people feeding on anima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 from Queen Elizabeth National Park.</a:t>
            </a:r>
            <a:br>
              <a:rPr sz="2000"/>
            </a:br>
            <a:r>
              <a:rPr b="0" lang="en-US" sz="2000" spc="-1" strike="noStrike" u="sng">
                <a:solidFill>
                  <a:srgbClr val="ccb400"/>
                </a:solidFill>
                <a:uFillTx/>
                <a:latin typeface="Kristen ITC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ccb400"/>
                </a:solidFill>
                <a:uFillTx/>
                <a:latin typeface="Kristen ITC"/>
                <a:hlinkClick r:id="rId2"/>
              </a:rPr>
              <a:t>www.youtube.com/watch?v</a:t>
            </a:r>
            <a:r>
              <a:rPr b="0" lang="en-US" sz="2000" spc="-1" strike="noStrike" u="sng">
                <a:solidFill>
                  <a:srgbClr val="ccb400"/>
                </a:solidFill>
                <a:uFillTx/>
                <a:latin typeface="Kristen ITC"/>
                <a:hlinkClick r:id="rId3"/>
              </a:rPr>
              <a:t>=2zKDFjAHk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Figure 3. Hunters with a net wrapped on a stick and a spear on their way to hunting in Masindi District, Western Uganda. (Source: Photograph by Magelah Peter G. © 2007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990720"/>
            <a:ext cx="2644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533520" y="1522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52280" y="990720"/>
            <a:ext cx="8763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Conserving a habita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     Places such as national parks or nature reserves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     No human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Reduce + Reuse + Recycle = Better habitat for animals and less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endanger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Organizations have been set up through out the world for this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ca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Laws have been adopted to regulate import, export and all sales of any endangered spe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Other laws are to protect species from various forms of inhumane treatment and poach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Kristen ITC"/>
              </a:rPr>
              <a:t>How to stop Poac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Report any suspicion of illegal animal capturing to a FWP’s (Fish,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 Wildlife &amp; Parks) TIP-MONT program and they could help stop the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 poachers. 1-800-TIP-MO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http://www.montanagamewardens.org/images/conference_logo.gif"/>
          <p:cNvPicPr/>
          <p:nvPr/>
        </p:nvPicPr>
        <p:blipFill>
          <a:blip r:embed="rId1"/>
          <a:stretch/>
        </p:blipFill>
        <p:spPr>
          <a:xfrm>
            <a:off x="7391520" y="380880"/>
            <a:ext cx="150336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2286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57200" y="1219320"/>
            <a:ext cx="83818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015"/>
                </a:solidFill>
                <a:latin typeface="Arial"/>
              </a:rPr>
              <a:t>Hagener, Jeff. "Together, We Can Stop Poachers." </a:t>
            </a:r>
            <a:r>
              <a:rPr b="0" lang="en-US" sz="1800" spc="-1" strike="noStrike" u="sng">
                <a:solidFill>
                  <a:srgbClr val="2d2015"/>
                </a:solidFill>
                <a:uFillTx/>
                <a:latin typeface="Arial"/>
              </a:rPr>
              <a:t>Montana Fish, Wildlife and</a:t>
            </a:r>
            <a:br>
              <a:rPr sz="1800"/>
            </a:br>
            <a:r>
              <a:rPr b="0" lang="en-US" sz="1800" spc="-1" strike="noStrike">
                <a:solidFill>
                  <a:srgbClr val="2d2015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2d2015"/>
                </a:solidFill>
                <a:uFillTx/>
                <a:latin typeface="Arial"/>
              </a:rPr>
              <a:t>Parks</a:t>
            </a:r>
            <a:r>
              <a:rPr b="0" lang="en-US" sz="1800" spc="-1" strike="noStrike">
                <a:solidFill>
                  <a:srgbClr val="2d2015"/>
                </a:solidFill>
                <a:latin typeface="Arial"/>
              </a:rPr>
              <a:t>. 2 Mar. 2009 &lt;http://fwp.mt.gov&gt;. Path: http://fwp.mt.gov/</a:t>
            </a:r>
            <a:br>
              <a:rPr sz="1800"/>
            </a:br>
            <a:r>
              <a:rPr b="0" lang="en-US" sz="1800" spc="-1" strike="noStrike">
                <a:solidFill>
                  <a:srgbClr val="2d201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d2015"/>
                </a:solidFill>
                <a:latin typeface="Arial"/>
              </a:rPr>
              <a:t>mtoutdoors/html/director/SO06.htm. 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"Horrific Methods Used by Elephant Poachers- BBC Wildlife." </a:t>
            </a:r>
            <a:r>
              <a:rPr b="0" lang="en-US" sz="1800" spc="-1" strike="noStrike" u="sng">
                <a:solidFill>
                  <a:srgbClr val="523e26"/>
                </a:solidFill>
                <a:uFillTx/>
                <a:latin typeface="Arial"/>
              </a:rPr>
              <a:t>YouTube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. 19 May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2008. 1 Mar. 2009 &lt;http://www.youtube.com&gt;. Path: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http://www.youtube.com/watch?v=2zKDFjAHk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Kurpis, Lauren. </a:t>
            </a:r>
            <a:r>
              <a:rPr b="0" lang="en-US" sz="1800" spc="-1" strike="noStrike" u="sng">
                <a:solidFill>
                  <a:srgbClr val="523e26"/>
                </a:solidFill>
                <a:uFillTx/>
                <a:latin typeface="Arial"/>
              </a:rPr>
              <a:t>Endangered Specie The Rarest Info Around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. 1 Mar. 2009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&lt;http://www.endangeredspecie.com/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Magelah, Peter. "Poaching." </a:t>
            </a:r>
            <a:r>
              <a:rPr b="0" lang="en-US" sz="1800" spc="-1" strike="noStrike" u="sng">
                <a:solidFill>
                  <a:srgbClr val="523e26"/>
                </a:solidFill>
                <a:uFillTx/>
                <a:latin typeface="Arial"/>
              </a:rPr>
              <a:t>The Encyclopedia or Earth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. 5 Oct. 2007. 1 Mar.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2009 &lt;http://www.eoearth.org/&gt;. Path: http://www.eoearth.org/article/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Poach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39:28Z</dcterms:created>
  <dc:creator>sasd</dc:creator>
  <dc:description/>
  <dc:language>en-US</dc:language>
  <cp:lastModifiedBy>sasd</cp:lastModifiedBy>
  <dcterms:modified xsi:type="dcterms:W3CDTF">2009-03-09T14:49:25Z</dcterms:modified>
  <cp:revision>21</cp:revision>
  <dc:subject/>
  <dc:title>Slide 1</dc:title>
</cp:coreProperties>
</file>